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199092"/>
        <c:axId val="78886453"/>
      </c:barChart>
      <c:catAx>
        <c:axId val="301990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886453"/>
        <c:crosses val="autoZero"/>
        <c:auto val="1"/>
        <c:lblAlgn val="ctr"/>
        <c:lblOffset val="100"/>
        <c:noMultiLvlLbl val="0"/>
      </c:catAx>
      <c:valAx>
        <c:axId val="788864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1990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AE39-A79E-4AEE-863E-E27FBA5C5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F076-CA20-4780-8B5F-1025E672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48F5-80AA-4E93-94B1-056304C55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25C4-3AFD-41DC-BFE7-D321314A6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9786-09B0-4F65-B9A0-22DD84E2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8CDE-9CA0-4741-A8AE-BF97C07B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A548-C00F-4694-8A86-636BE5C9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E3F3-1FCE-4406-9183-76269248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12AB-5E3B-4FD3-ABED-E4ADBDC7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7C87-99AF-420E-AF37-D07D3BB3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EED3-F8B0-4722-A711-E5E45572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CC5A-54EE-42FB-A1C3-F45741D9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87C4B-752C-4421-BFE7-9777E02A16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