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47000"/>
        <c:axId val="30752768"/>
      </c:barChart>
      <c:catAx>
        <c:axId val="78747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52768"/>
        <c:crosses val="autoZero"/>
        <c:auto val="1"/>
        <c:lblAlgn val="ctr"/>
        <c:lblOffset val="100"/>
        <c:noMultiLvlLbl val="0"/>
      </c:catAx>
      <c:valAx>
        <c:axId val="30752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47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A12-FC76-4458-A3F1-7D8E4147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877-58EB-4E79-B5B4-7798E5E5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6607-E5F5-43C9-8AB4-78EC2BE2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B73-5F3E-4E1A-8B4D-E32AE76D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593-E6C6-4445-AE8A-60CA37CE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298-B323-4814-91FA-C0058E67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C01-6C9E-4642-BDA3-AF5A8667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CA23-F979-45AC-996E-0076E2BB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901-8917-4937-9C68-D06D7069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1C8-88B9-410D-AFA5-AF6E08D9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115-109B-431D-AEE3-A778E254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9C1-98E9-4ED3-9F1C-C6E6B3AB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ECF4E-F0AC-4DCA-8171-B5A4B1E47A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