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54990"/>
        <c:axId val="43262684"/>
      </c:barChart>
      <c:catAx>
        <c:axId val="17754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62684"/>
        <c:crosses val="autoZero"/>
        <c:auto val="1"/>
        <c:lblAlgn val="ctr"/>
        <c:lblOffset val="100"/>
        <c:noMultiLvlLbl val="0"/>
      </c:catAx>
      <c:valAx>
        <c:axId val="43262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54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390-69D2-4E54-9B17-96BFEFBC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CEA-9CA3-4467-A958-0C831E08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44C-32F9-4EC5-A17C-6E95B23C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AD7-6785-4136-8102-E9F371D4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4A2-7428-4D66-B297-A13EEE5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D6E-703F-4267-B91D-F145FB2C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C46-E17E-4265-8703-88255D3E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ACE-F5BC-4E10-B008-7DDF031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C33-C41E-45CA-A119-7D34732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F8A-8E88-4DED-A257-36C43B40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7DF-F738-4088-B907-C17AFEE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5C5-91CB-4430-BEA4-0B8A20D3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184B2-BA46-451A-9C2D-E4E8E19D9B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