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37777"/>
        <c:axId val="98266253"/>
      </c:barChart>
      <c:catAx>
        <c:axId val="54937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66253"/>
        <c:crosses val="autoZero"/>
        <c:auto val="1"/>
        <c:lblAlgn val="ctr"/>
        <c:lblOffset val="100"/>
        <c:noMultiLvlLbl val="0"/>
      </c:catAx>
      <c:valAx>
        <c:axId val="98266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7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13D-EFD0-4049-A721-D9B68BC5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A57-264D-47B8-8B32-C762CB0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277-E6F6-43D3-8908-2A3FC89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E7F-3935-4C01-BFBC-C727B41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5EF-5E53-4109-A3B4-9303FDD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C64-E58F-46B9-A853-B46883E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7D9-0B93-4077-8C99-3024065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79B-7E55-4D9E-A2F2-2A1D6B8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F0F-73FE-47FC-A04B-1DBD83BE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563-D6C6-449F-B448-ABB593C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C40-93A2-4886-B5A5-2F77E8C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693-3974-4939-AA10-E742207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D4CA9-5045-4626-BC63-AED043CA6D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