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899270"/>
        <c:axId val="93611762"/>
      </c:barChart>
      <c:catAx>
        <c:axId val="36899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11762"/>
        <c:crosses val="autoZero"/>
        <c:auto val="1"/>
        <c:lblAlgn val="ctr"/>
        <c:lblOffset val="100"/>
        <c:noMultiLvlLbl val="0"/>
      </c:catAx>
      <c:valAx>
        <c:axId val="93611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99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D64-BDA9-47AC-B3DF-253B6AF5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316-9671-4A7B-8CC3-F56B4DA1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BF3-B0D9-4EC0-A6D0-A7359919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ED1-C2FD-471D-81D1-C77796D8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5380-BEBC-4981-A9B6-0DF84AD5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F97-46C4-4B33-991F-04F0A175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CB5-52F9-4935-9EAC-53F89C02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0E4-E976-478C-923E-BBDFC2D9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1B90-0C08-4BCD-B5BA-5C650643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F6A-1014-4317-A67E-16EDA5AA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C9E-6243-41BA-A492-DA9EFA3E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D11-C463-4B8B-805C-E9585ABC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C4BEF-E282-4AAD-A4AC-4578342432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